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704C-716A-4C3B-A7BE-4D8822192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E7DC-37F2-4E04-88F8-4F4AF33623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5F89-4D32-4F80-9774-1B68E85E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721-CAA0-4C1E-9CF1-A45E59DF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7D1-B8BC-4FF5-96EF-E8AF0046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543-7939-4575-B4B7-085EE270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4E7-EAE9-4A35-A7C5-0B14040D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7F5E-BECB-4F02-B2B7-8D4597B8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AF7D-2676-474D-A8C9-E57BBF57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84D6-2381-4454-8447-ED022185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249E-4896-4AC4-B3EB-DB8F2E80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F90C-9CDE-469B-A33C-AD6A700B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7C72-2442-4A35-8ED3-1F51DEF9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DCC-8DC2-44D1-A239-2705C886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EA61-04B0-4DEB-BACA-3F13C14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6CF7-04E0-4C4A-9EFD-C2C8A301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ECD-77DE-4E4B-959F-7523062D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496C2-A58F-4B0F-B750-AF5C2998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1B4B-F01E-4F22-8FB1-EB7289BB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A01-D3F8-426B-8A5F-8ABC7BA8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33D-61C2-4B30-91FD-E555215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4FF-ADE7-43E6-8D2A-9E1AB507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491-F91D-4A79-B49C-4EED1367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76A-12F2-428F-9DA8-F5BF6DA9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66BA-643B-4595-AEA7-6E87A72A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031-9918-4306-9ED0-BBC5E959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3482-E237-48D8-BD53-B2707DD4A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F304-4D52-4C48-9D18-34D7961F2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m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sé Composé vs. Imparf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undi, il n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ai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1. pas beau!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i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2. mal luné et j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3. beaucoup de devoirs. Je n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veux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4. pas aller à l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cole. D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rd, je m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réveill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. à 5h et puis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mang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6. le petit déjeuner.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p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7. de la maison mai tout à coup j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mb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8. dans la ru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lheureusement, j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rriv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9. en retard à 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cole et j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10. collé. Quelle journé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ndi, il n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faisai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as bea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J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tai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mal lun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.  j</a:t>
            </a:r>
            <a:r>
              <a:rPr b="1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va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aucoup de devoi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. n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oula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as aller à l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co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rd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j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e sui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réveillé(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à 5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is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6. J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i mang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mon petit déjeun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is parti(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e la mai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mais tout à coup , j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is tombé(e)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ans la ru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é Compos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s sont des exemples du passé compos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 f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 mang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suis allé(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me suis promené(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. Malheursement, j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uis arrivé(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 en retard à l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éco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j</a:t>
            </a:r>
            <a:r>
              <a:rPr b="1" lang="ja-JP" sz="3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i été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ollé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uelle journée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é Compos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quoi est-ce qu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utilise le passé compos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se pou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crire un évenement qui 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 passé dans un moment (vi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crire des évenement qui se sont passés 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après 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re (une lis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ssé Composé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rencontré un garçon su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e suis réveillée. Je me suis habillée. 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mangé le petit déjeuner. Je suis allée à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cole. 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oublié mes devoi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ls sont des exemples de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fais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 parl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urquoi est-ce qu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utilise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 parler des choses qui se passent pendant L O N G T E M P 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ur faire des descrip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 matin, il faisait froid! Il pleuvait aussi. 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tais fatiqué et j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tais mal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b7"/>
                </a:solidFill>
                <a:latin typeface="Arial Black"/>
              </a:rPr>
              <a:t>P.C. vs. Imparfai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685800" y="4724280"/>
            <a:ext cx="3886200" cy="990720"/>
          </a:xfrm>
          <a:prstGeom prst="leftRightArrow">
            <a:avLst>
              <a:gd name="adj1" fmla="val 50000"/>
              <a:gd name="adj2" fmla="val 78089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  M  P  A  R  F  A  I 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72000" y="3657600"/>
            <a:ext cx="533520" cy="3124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124080" y="1752480"/>
            <a:ext cx="838440" cy="3200400"/>
          </a:xfrm>
          <a:prstGeom prst="downArrow">
            <a:avLst>
              <a:gd name="adj1" fmla="val 50000"/>
              <a:gd name="adj2" fmla="val 9542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105520" y="4724280"/>
            <a:ext cx="3962160" cy="990720"/>
          </a:xfrm>
          <a:prstGeom prst="leftRightArrow">
            <a:avLst>
              <a:gd name="adj1" fmla="val 50000"/>
              <a:gd name="adj2" fmla="val 7961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F U T U 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133720" y="1752480"/>
            <a:ext cx="838080" cy="3200400"/>
          </a:xfrm>
          <a:prstGeom prst="downArrow">
            <a:avLst>
              <a:gd name="adj1" fmla="val 50000"/>
              <a:gd name="adj2" fmla="val 9546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219320" y="1752480"/>
            <a:ext cx="838080" cy="3200400"/>
          </a:xfrm>
          <a:prstGeom prst="downArrow">
            <a:avLst>
              <a:gd name="adj1" fmla="val 50000"/>
              <a:gd name="adj2" fmla="val 9546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t, prenons un paragraphe et mettez-le au pass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c, pensez aux fonctions du PASSÉ COMPOSÉ et de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2:00:02Z</dcterms:modified>
  <cp:revision>74</cp:revision>
  <dc:subject/>
  <dc:title>Allez, viens! – Level 2</dc:title>
</cp:coreProperties>
</file>